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6ED-1BC1-41F7-885A-BEDDAB1B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C05-D5B0-408F-9C62-CCF8ECE2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F71-1554-4D15-81C1-238A6645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FEF-03FD-4868-9B6E-482576A1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C30-A017-41D6-AE4F-532FD000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71E-360C-4386-860A-FFE06E8D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DB2-CCFC-4424-B2B4-5E1581A1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786-C080-45AD-95C4-5E19DBAD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53C-ABF0-4F3D-91B3-BABCD4A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561-9259-4F83-A1EB-D460F6E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970-D948-4B5A-8165-89AF9E7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B4C-D3F6-4A67-BE12-85E46AB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089-2F2F-4460-A7CD-2983FF3BB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7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143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types of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ion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hemical change in which two or more substances react to form a single new sub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3623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2Mg   + 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743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 Group A metal and a nonmetal react, product is a compound consisting of the metal cation and the nonmetal 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962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two nonmetals react in a combo reaction, more than one product i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4648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 transition metal and a nonmetal react more than one product is also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emical change in which an element or a compound reacts with oxygen is called a _________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u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re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rShape1"/>
          <p:cNvSpPr/>
          <p:nvPr/>
        </p:nvSpPr>
        <p:spPr>
          <a:xfrm>
            <a:off x="1133640" y="2027160"/>
            <a:ext cx="1514160" cy="365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omposition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 change in which a single compound breaks down into a two or more simpler produc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828800"/>
            <a:ext cx="6858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HgO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Hg  +  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volve only one reac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895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gle-Replacement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hemical change in which one element replaced a second element in a 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098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2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KO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3434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oth reactants and products consist of of a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one reactive metal displace another met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19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, if the first reactive metal is higher up the activity series.  (see page 3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uble-replacement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hemical change involving the exchange of positive ions between two compoun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971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times called double-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r these type to occur one of the following i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862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One of the products is only slightly soluble and precipitates from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648320"/>
            <a:ext cx="678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aq)  +  Cd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S(s)  +  2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One of the products is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14300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aCN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HCN(g) +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One product is a molecular compound such as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828800"/>
            <a:ext cx="701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 2HCl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09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ustion reaction:  chemical change in which an element or a compound reacts with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971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often produces energy in the form of heat an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505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ther reactant is hydrocarbon (hydrogen + car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038480"/>
            <a:ext cx="701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5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8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44956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ason why methane, propane, butane are important fuels (hydrocarb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qua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TPChart"/>
          <p:cNvGraphicFramePr/>
          <p:nvPr/>
        </p:nvGraphicFramePr>
        <p:xfrm>
          <a:off x="533520" y="1841400"/>
          <a:ext cx="8153280" cy="21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1400"/>
                    <a:ext cx="815328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chemical re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how to write chemical form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directions for naming chemical com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only biologic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rShape1"/>
          <p:cNvSpPr/>
          <p:nvPr/>
        </p:nvSpPr>
        <p:spPr>
          <a:xfrm>
            <a:off x="1224000" y="2098800"/>
            <a:ext cx="216000" cy="215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hemical equation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rShape1"/>
          <p:cNvSpPr/>
          <p:nvPr/>
        </p:nvSpPr>
        <p:spPr>
          <a:xfrm>
            <a:off x="2438280" y="274320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coefficients that will balance the equ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1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3,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 1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3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rShape1"/>
          <p:cNvSpPr/>
          <p:nvPr/>
        </p:nvSpPr>
        <p:spPr>
          <a:xfrm rot="10800000">
            <a:off x="2285640" y="34286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double replacement reaction, the 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533520" y="1841400"/>
          <a:ext cx="873756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1400"/>
                    <a:ext cx="873756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re always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s are two ionic com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s are two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re a new element and a new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rShape1"/>
          <p:cNvSpPr/>
          <p:nvPr/>
        </p:nvSpPr>
        <p:spPr>
          <a:xfrm>
            <a:off x="1752480" y="2514600"/>
            <a:ext cx="216000" cy="21600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ction 2Fe + 3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xample of which type of re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u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rShape1"/>
          <p:cNvSpPr/>
          <p:nvPr/>
        </p:nvSpPr>
        <p:spPr>
          <a:xfrm>
            <a:off x="3124080" y="274320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23:28:07Z</dcterms:created>
  <dc:creator>jpak</dc:creator>
  <dc:description/>
  <dc:language>en-US</dc:language>
  <cp:lastModifiedBy>Customer</cp:lastModifiedBy>
  <dcterms:modified xsi:type="dcterms:W3CDTF">2010-01-11T16:04:48Z</dcterms:modified>
  <cp:revision>20</cp:revision>
  <dc:subject/>
  <dc:title>Note Guide 7-2</dc:title>
</cp:coreProperties>
</file>